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C9F-7F7A-4BFD-AE47-10DA376C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50D-D0AE-4F55-ACFA-070D7E9E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0A9-2A22-470C-BAED-427ED5EE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FAF-934D-403E-B2B0-E0DC5C8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725-9B63-4897-8915-728897F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EC2-71FB-4058-B935-4315A0CB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D70-AFE8-463A-86C5-BD79CCF4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92A-FFD5-42BA-883E-B4169F4A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E2D-A0F1-4A7D-85A0-0A9E5B5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BF7-9D63-43A7-BD5F-60BFAFC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329-7AED-405E-94FA-E77336C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F31-13FE-4D65-B315-8AD9EB9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2EE0-0F07-4480-B19D-299DF5E1FB8C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 has chang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the organisms living on it changed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ossil record says yes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38680" y="609120"/>
            <a:ext cx="2819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’s The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075280"/>
            <a:ext cx="9144000" cy="1782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tnes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aptive advant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90920" y="4724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3600" y="2666880"/>
            <a:ext cx="2895480" cy="1514520"/>
            <a:chOff x="5943600" y="2666880"/>
            <a:chExt cx="2895480" cy="15145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rcRect l="0" t="0" r="0" b="11374"/>
            <a:stretch/>
          </p:blipFill>
          <p:spPr>
            <a:xfrm>
              <a:off x="5943600" y="2666880"/>
              <a:ext cx="2895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5943600" y="2666880"/>
              <a:ext cx="2895480" cy="15145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.  Fossil Record - The fossils show chang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umber of speci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ogeograph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hat and where an animal is depends on its hi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ssils for armadillos are found in the new world, and armadillos are found in the new world, therefore animals are found above their fossi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uccession of Form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escent with modific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orse fossil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209700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486400" y="4309920"/>
            <a:ext cx="35352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444" t="3001" r="3940" b="4000"/>
          <a:stretch/>
        </p:blipFill>
        <p:spPr>
          <a:xfrm>
            <a:off x="12193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ssil Recor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fossils show chan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ioge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and where an animal is depends on its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ber of spec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1520" y="4257720"/>
            <a:ext cx="2097000" cy="169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. Anatomical Structu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parison by morph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mon Ances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omologous Stru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estigial Struc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alogous Struc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6791"/>
          <a:stretch/>
        </p:blipFill>
        <p:spPr>
          <a:xfrm>
            <a:off x="533520" y="4613400"/>
            <a:ext cx="3809880" cy="2244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4769"/>
          <a:stretch/>
        </p:blipFill>
        <p:spPr>
          <a:xfrm>
            <a:off x="533520" y="1905120"/>
            <a:ext cx="3609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72200" cy="4972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38680" y="1066320"/>
            <a:ext cx="3200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mmon Ances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mologous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milar structure due to shared ancestry, but have different fun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Vestigial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 current fun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d function in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uman appendi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uman coccyx (tailbon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le leg bon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7067" t="47021" r="26575" b="-268"/>
          <a:stretch/>
        </p:blipFill>
        <p:spPr>
          <a:xfrm>
            <a:off x="4495680" y="1828800"/>
            <a:ext cx="44118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0400" y="304920"/>
            <a:ext cx="34966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Evidence of </a:t>
            </a: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133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ous Structur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tigial Orga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4724280"/>
            <a:ext cx="266688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305240" cy="20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" y="5346720"/>
            <a:ext cx="1266840" cy="121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90920" y="57913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t’s wing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6553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pp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334120" y="4724280"/>
            <a:ext cx="3504960" cy="1501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486400" y="19810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715000" y="685800"/>
            <a:ext cx="24336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4309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fferent Ancest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alogous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fferent structures have similar function but evolved separate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. Embry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bryo development reflects evolution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shows inheritance of an original, shared body pla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564" r="0" b="9946"/>
          <a:stretch/>
        </p:blipFill>
        <p:spPr>
          <a:xfrm>
            <a:off x="0" y="2465280"/>
            <a:ext cx="7010280" cy="439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934320" y="2133720"/>
            <a:ext cx="220968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 sl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spo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 hol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istory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ristotle’s ladder of na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utton – gradualism;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vier - catatroph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amar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- acquired trait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. giraff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arwi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scent with modification due to natural sele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. Embry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bryo development reflects evolution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8564" r="0" b="9946"/>
          <a:stretch/>
        </p:blipFill>
        <p:spPr>
          <a:xfrm>
            <a:off x="0" y="2465280"/>
            <a:ext cx="7010280" cy="4392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248520" y="30481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ntology recapitulates Phylogen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Name that Animal!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40002"/>
          <a:stretch/>
        </p:blipFill>
        <p:spPr>
          <a:xfrm>
            <a:off x="990720" y="1398600"/>
            <a:ext cx="6476760" cy="534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342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T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6338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505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idence for Evolution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iochemical</a:t>
            </a:r>
            <a:br>
              <a:rPr sz="3600"/>
            </a:br>
            <a:r>
              <a:rPr b="1" lang="en-US" sz="1600" spc="-1" strike="noStrike">
                <a:solidFill>
                  <a:srgbClr val="3333cc"/>
                </a:solidFill>
                <a:latin typeface="Book Antiqua"/>
              </a:rPr>
              <a:t>shows inheritance of similar chemicals by different species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Book Antiqua"/>
              </a:rPr>
              <a:t>Example:  Hemoglobin, amino acid sequenc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7062"/>
          <a:stretch/>
        </p:blipFill>
        <p:spPr>
          <a:xfrm>
            <a:off x="152280" y="1981080"/>
            <a:ext cx="8763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20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ddddd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Evidence of EVOLUTION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Fossil Recor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Anatomical Structures (anatomy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mbryolog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shows inheritance of an original, shared body pla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shows inheritance of similar chemicals by different speci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xample:  Hemoglobin, amino acid sequenc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Microevolution with genetic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new alleles from mutations and recombination create VARI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if those variations make an organism more fit =NATURAL SELEC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048120" cy="4191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86400" y="41911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327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icroevolu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ange within a species with a short generation 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servable in a human’s life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acterial resista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ppered moth of Engla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rtificial selec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3083040" cy="419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838080"/>
            <a:ext cx="6019920" cy="6019920"/>
            <a:chOff x="0" y="838080"/>
            <a:chExt cx="6019920" cy="6019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3442"/>
            <a:stretch/>
          </p:blipFill>
          <p:spPr>
            <a:xfrm>
              <a:off x="0" y="838080"/>
              <a:ext cx="601992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0" y="838080"/>
              <a:ext cx="601992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10080" y="83772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nge over 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rocess by which modern organisms have descended from ancient organis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nges in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o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organis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not happen in one gener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9284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rles Darwi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ory of natural selec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udying finches in the Galapagos Isl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fred Wal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milar theory at a similar tim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often recogniz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440" y="1230480"/>
            <a:ext cx="862956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408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9172" t="7265" r="0" b="0"/>
          <a:stretch/>
        </p:blipFill>
        <p:spPr>
          <a:xfrm>
            <a:off x="2286000" y="33526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99072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’s The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Vari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mong offspr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Overpopul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more organisms produced than can surviv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&amp; Survival of the Fittes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tne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aptive advantag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survivors live to reproduce passing on trai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) Over hundreds of generations,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Descent with modif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4120" y="609480"/>
            <a:ext cx="3733200" cy="6095880"/>
            <a:chOff x="5334120" y="609480"/>
            <a:chExt cx="3733200" cy="6095880"/>
          </a:xfrm>
        </p:grpSpPr>
        <p:sp>
          <p:nvSpPr>
            <p:cNvPr id="63" name=""/>
            <p:cNvSpPr/>
            <p:nvPr/>
          </p:nvSpPr>
          <p:spPr>
            <a:xfrm>
              <a:off x="6267240" y="60948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07520" y="60948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0880" y="6094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51600" y="60948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0600" y="149076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8480" y="1563840"/>
              <a:ext cx="559800" cy="58752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04960" y="20782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7440" y="193140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60880" y="207828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16360" y="163764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11760" y="163764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58400" y="2004480"/>
              <a:ext cx="559800" cy="58752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7520" y="1563840"/>
              <a:ext cx="559800" cy="58752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9640" y="149076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14240" y="149076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76520" y="2004480"/>
              <a:ext cx="559800" cy="58752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281268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31640" y="295956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8480" y="34740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20600" y="3326760"/>
              <a:ext cx="559800" cy="58752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4040" y="347400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9520" y="30330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5280" y="303300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1920" y="340020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0680" y="295956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23160" y="2886120"/>
              <a:ext cx="559800" cy="58752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27400" y="2886120"/>
              <a:ext cx="559800" cy="58752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9680" y="340020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6400" y="281268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74040" y="3547080"/>
              <a:ext cx="497520" cy="58752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7400" y="295956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25280" y="3033000"/>
              <a:ext cx="49788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58400" y="3033000"/>
              <a:ext cx="49788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9680" y="3547080"/>
              <a:ext cx="497520" cy="58752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20600" y="340020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3920" y="295956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34200" y="347400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8480" y="45756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27400" y="45756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78280" y="5236560"/>
              <a:ext cx="373320" cy="660960"/>
            </a:xfrm>
            <a:prstGeom prst="downArrow">
              <a:avLst>
                <a:gd name="adj1" fmla="val 50000"/>
                <a:gd name="adj2" fmla="val 4426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8320" y="6118200"/>
              <a:ext cx="559800" cy="587160"/>
            </a:xfrm>
            <a:prstGeom prst="star5">
              <a:avLst/>
            </a:prstGeom>
            <a:solidFill>
              <a:srgbClr val="0000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3040" y="58978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40560" y="6118200"/>
              <a:ext cx="559800" cy="587160"/>
            </a:xfrm>
            <a:prstGeom prst="star5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2a2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7560" y="61182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600" y="5677200"/>
              <a:ext cx="559800" cy="58716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5080" y="5897880"/>
              <a:ext cx="559800" cy="587160"/>
            </a:xfrm>
            <a:prstGeom prst="star5">
              <a:avLst/>
            </a:prstGeom>
            <a:solidFill>
              <a:srgbClr val="0000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idence for Darwin’s Theory 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ent with modific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19" t="3176" r="2085" b="6678"/>
          <a:stretch/>
        </p:blipFill>
        <p:spPr>
          <a:xfrm>
            <a:off x="2133720" y="762120"/>
            <a:ext cx="701028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438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ification by natural sele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nt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mote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5:47Z</dcterms:created>
  <dc:creator>Beth Waid Prince</dc:creator>
  <dc:description/>
  <dc:language>en-US</dc:language>
  <cp:lastModifiedBy>Tricia</cp:lastModifiedBy>
  <cp:lastPrinted>2001-01-20T19:53:34Z</cp:lastPrinted>
  <dcterms:modified xsi:type="dcterms:W3CDTF">2007-03-27T13:27:33Z</dcterms:modified>
  <cp:revision>72</cp:revision>
  <dc:subject/>
  <dc:title>Evolution</dc:title>
</cp:coreProperties>
</file>